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B099-0AAF-4C1C-83F2-2BF336AA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51DD-5331-4296-BC8B-0C499FB3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F01-03E5-4466-9392-25E29EAB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EC9-D6B2-45AC-A826-7046C920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F48-6027-4272-8605-304D3E5B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188-2909-45B6-8489-8B919655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42F9-81B5-424A-BB1B-A24AAD6F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100-6D91-40BE-B95A-1773CD45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436-DCFB-4145-8BE6-A707BF87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AA8-B603-4461-985C-84513D99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B40B-018D-4592-916E-AC79B4CC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2E0-FB6B-4FA2-94B2-3E6BD39F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5E75-DF60-4B1C-9CEC-726C84276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457200"/>
            <a:ext cx="457200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Arial"/>
              </a:rPr>
              <a:t>RHETORICAL DE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3124080"/>
            <a:ext cx="137160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Arial"/>
              </a:rPr>
              <a:t>SP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971800"/>
            <a:ext cx="205740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ff"/>
                </a:solidFill>
                <a:latin typeface="Arial"/>
              </a:rPr>
              <a:t>APPE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6019920"/>
            <a:ext cx="167652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371600"/>
            <a:ext cx="42674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Bradley Hand ITC"/>
              </a:rPr>
              <a:t>The JFK Inaugural Addr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Bradley Hand ITC"/>
              </a:rPr>
              <a:t>MAIN MEN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52280" y="152280"/>
            <a:ext cx="8686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ASYNDET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1226520" y="1294560"/>
            <a:ext cx="68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The omission of conjunctions where they would normally be use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795320"/>
            <a:ext cx="3353040" cy="47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9933"/>
                </a:solidFill>
                <a:latin typeface="Arial"/>
              </a:rPr>
              <a:t>Exampl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9933"/>
                </a:solidFill>
                <a:latin typeface="Arial"/>
              </a:rPr>
              <a:t>“…</a:t>
            </a:r>
            <a:r>
              <a:rPr b="0" lang="en-US" sz="2900" spc="-1" strike="noStrike">
                <a:solidFill>
                  <a:srgbClr val="ff9933"/>
                </a:solidFill>
                <a:latin typeface="Arial"/>
              </a:rPr>
              <a:t>we shall pay any price, bear any burden, meet any hardship, support any friend, oppose any foe, to assure the survival and the success of liberty.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1752480"/>
            <a:ext cx="4572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6600"/>
                </a:solidFill>
                <a:latin typeface="Arial"/>
              </a:rPr>
              <a:t>Purpos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6600"/>
                </a:solidFill>
                <a:latin typeface="Arial"/>
              </a:rPr>
              <a:t>To stress importa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ff6600"/>
                </a:solidFill>
                <a:latin typeface="Arial"/>
              </a:rPr>
              <a:t>Strong emotional rea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6600"/>
                </a:solidFill>
                <a:latin typeface="Arial"/>
              </a:rPr>
              <a:t>Effec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6600"/>
                </a:solidFill>
                <a:latin typeface="Arial"/>
              </a:rPr>
              <a:t>- After reading this statement, other countries will know that the U.S. will do anything to preserve its freedo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28600" y="228600"/>
            <a:ext cx="8534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ANAPHOR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1605960" y="1218600"/>
            <a:ext cx="61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Repetition of a word or phrase at the beginning of the lin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805040"/>
            <a:ext cx="350496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99cc00"/>
                </a:solidFill>
                <a:latin typeface="Arial"/>
              </a:rPr>
              <a:t>To those old allies… we pledge the loyalty of faithful friends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99cc00"/>
                </a:solidFill>
                <a:latin typeface="Arial"/>
              </a:rPr>
              <a:t>To those new states… we pledge our word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99cc00"/>
                </a:solidFill>
                <a:latin typeface="Arial"/>
              </a:rPr>
              <a:t>To those people in huts… we pledge our best efforts to help them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805040"/>
            <a:ext cx="44960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9900"/>
                </a:solidFill>
                <a:latin typeface="Arial"/>
              </a:rPr>
              <a:t>Purpose:</a:t>
            </a:r>
            <a:br>
              <a:rPr sz="2700"/>
            </a:br>
            <a:r>
              <a:rPr b="0" lang="en-US" sz="2700" spc="-1" strike="noStrike">
                <a:solidFill>
                  <a:srgbClr val="009900"/>
                </a:solidFill>
                <a:latin typeface="Arial"/>
              </a:rPr>
              <a:t>- To draw attention</a:t>
            </a:r>
            <a:br>
              <a:rPr sz="2700"/>
            </a:br>
            <a:r>
              <a:rPr b="0" lang="en-US" sz="2700" spc="-1" strike="noStrike">
                <a:solidFill>
                  <a:srgbClr val="009900"/>
                </a:solidFill>
                <a:latin typeface="Arial"/>
              </a:rPr>
              <a:t>- To elucidate that he will be giving and caring to all types of peo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9900"/>
                </a:solidFill>
                <a:latin typeface="Arial"/>
              </a:rPr>
              <a:t>Effect:</a:t>
            </a:r>
            <a:br>
              <a:rPr sz="2700"/>
            </a:br>
            <a:r>
              <a:rPr b="0" lang="en-US" sz="2700" spc="-1" strike="noStrike">
                <a:solidFill>
                  <a:srgbClr val="009900"/>
                </a:solidFill>
                <a:latin typeface="Arial"/>
              </a:rPr>
              <a:t>- Pathos, or an emotional effect because the reader feels obligated to take par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52280" y="152280"/>
            <a:ext cx="87631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HORTATI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SENT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2822040" y="266616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xhorts, advises, calls to ac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971800"/>
            <a:ext cx="3733560" cy="37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66cc"/>
                </a:solidFill>
                <a:latin typeface="Arial"/>
              </a:rPr>
              <a:t>Exampl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66cc"/>
                </a:solidFill>
                <a:latin typeface="Arial"/>
              </a:rPr>
              <a:t>“</a:t>
            </a:r>
            <a:r>
              <a:rPr b="0" lang="en-US" sz="1900" spc="-1" strike="noStrike">
                <a:solidFill>
                  <a:srgbClr val="ff66cc"/>
                </a:solidFill>
                <a:latin typeface="Arial"/>
              </a:rPr>
              <a:t>So let us begin anew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66cc"/>
                </a:solidFill>
                <a:latin typeface="Arial"/>
              </a:rPr>
              <a:t>Let both sides explore what problems unite us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66cc"/>
                </a:solidFill>
                <a:latin typeface="Arial"/>
              </a:rPr>
              <a:t>Let both sides, for the first time, formulate serious and precise proposals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66cc"/>
                </a:solidFill>
                <a:latin typeface="Arial"/>
              </a:rPr>
              <a:t>Let both sides seek to invoke the wonder of science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66cc"/>
                </a:solidFill>
                <a:latin typeface="Arial"/>
              </a:rPr>
              <a:t>Let both sides unite to heed…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3276720"/>
            <a:ext cx="42670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66"/>
                </a:solidFill>
                <a:latin typeface="Arial"/>
              </a:rPr>
              <a:t>Purpos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66"/>
                </a:solidFill>
                <a:latin typeface="Arial"/>
              </a:rPr>
              <a:t>To acknowledge many op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0066"/>
                </a:solidFill>
                <a:latin typeface="Arial"/>
              </a:rPr>
              <a:t>To politely persua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66"/>
                </a:solidFill>
                <a:latin typeface="Arial"/>
              </a:rPr>
              <a:t>Effec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66"/>
                </a:solidFill>
                <a:latin typeface="Arial"/>
              </a:rPr>
              <a:t>- After reading Kennedy’s list of his plans, he convinces the reader to take par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28600" y="1522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Arial Black"/>
              </a:rPr>
              <a:t>RHETOR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Arial Black"/>
              </a:rPr>
              <a:t>QUES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2442600" y="2437560"/>
            <a:ext cx="46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A question to which no answer is expe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905200"/>
            <a:ext cx="350532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9900"/>
                </a:solidFill>
                <a:latin typeface="Arial"/>
              </a:rPr>
              <a:t>Exampl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9900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cc9900"/>
                </a:solidFill>
                <a:latin typeface="Arial"/>
              </a:rPr>
              <a:t>Can we forge against these enemies a grand and global alliance, North and South, East and West, that can assure a more fruitful life for all mankind?”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9900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cc9900"/>
                </a:solidFill>
                <a:latin typeface="Arial"/>
              </a:rPr>
              <a:t>Will you join in that historic effort?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2895480"/>
            <a:ext cx="3657600" cy="43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Arial"/>
              </a:rPr>
              <a:t>Purpos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Arial"/>
              </a:rPr>
              <a:t>To strengthen the argument</a:t>
            </a:r>
            <a:br>
              <a:rPr sz="2300"/>
            </a:br>
            <a:r>
              <a:rPr b="0" lang="en-US" sz="2300" spc="-1" strike="noStrike">
                <a:solidFill>
                  <a:srgbClr val="663300"/>
                </a:solidFill>
                <a:latin typeface="Arial"/>
              </a:rPr>
              <a:t>- To provoke a respon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Arial"/>
              </a:rPr>
              <a:t>Effec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Arial"/>
              </a:rPr>
              <a:t>- Reader believes that they, like everyone else, are obligated to particip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28600" y="228600"/>
            <a:ext cx="8610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 Black"/>
              </a:rPr>
              <a:t>CHIASM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451520" y="1370880"/>
            <a:ext cx="648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half of a phrase reverses the order of the first ha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2133720"/>
            <a:ext cx="4038480" cy="38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Example:</a:t>
            </a:r>
            <a:br>
              <a:rPr sz="2600"/>
            </a:b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“Let us never negotiate out of fear, but let us never fear to negotiate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And so, my fellow Americans, ask not what your country can do for you; ask what you can do for your country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86600" y="6248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20968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1984320"/>
            <a:ext cx="3727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To concentrate attention on the main point of a passage by placing it at the central turning poi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ect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Draws meaningful contra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Aids in memor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066680" y="609480"/>
            <a:ext cx="7315200" cy="563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ff"/>
                    </a:gs>
                    <a:gs pos="50000">
                      <a:srgbClr val="e9bffe"/>
                    </a:gs>
                    <a:gs pos="100000">
                      <a:srgbClr val="cc66ff"/>
                    </a:gs>
                  </a:gsLst>
                  <a:lin ang="5400000"/>
                </a:gradFill>
                <a:latin typeface="Arial Black"/>
              </a:rPr>
              <a:t>APPEA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ff"/>
                  </a:gs>
                  <a:gs pos="50000">
                    <a:srgbClr val="e9bffe"/>
                  </a:gs>
                  <a:gs pos="100000">
                    <a:srgbClr val="cc66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ff"/>
                    </a:gs>
                    <a:gs pos="50000">
                      <a:srgbClr val="e9bffe"/>
                    </a:gs>
                    <a:gs pos="100000">
                      <a:srgbClr val="cc66ff"/>
                    </a:gs>
                  </a:gsLst>
                  <a:lin ang="5400000"/>
                </a:gradFill>
                <a:latin typeface="Arial Black"/>
              </a:rPr>
              <a:t>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ff"/>
                  </a:gs>
                  <a:gs pos="50000">
                    <a:srgbClr val="e9bffe"/>
                  </a:gs>
                  <a:gs pos="100000">
                    <a:srgbClr val="cc66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ff"/>
                    </a:gs>
                    <a:gs pos="50000">
                      <a:srgbClr val="e9bffe"/>
                    </a:gs>
                    <a:gs pos="100000">
                      <a:srgbClr val="cc66ff"/>
                    </a:gs>
                  </a:gsLst>
                  <a:lin ang="5400000"/>
                </a:gradFill>
                <a:latin typeface="Arial Black"/>
              </a:rPr>
              <a:t>RHETOR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ff"/>
                  </a:gs>
                  <a:gs pos="50000">
                    <a:srgbClr val="e9bffe"/>
                  </a:gs>
                  <a:gs pos="100000">
                    <a:srgbClr val="cc66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04920" y="152280"/>
            <a:ext cx="106668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304920"/>
            <a:ext cx="6324840" cy="61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or I have sworn before you and Almighty God the same solemn oath our forebears prescribed…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- Kennedy is now credible and hopes to continue the work of past Presid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 do not shrink from this responsibility– I welcome it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- Kennedy has a positive attitude on the situation and has America’s best interests at he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04920" y="152280"/>
            <a:ext cx="99036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304920"/>
            <a:ext cx="632448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9900"/>
                </a:solidFill>
                <a:latin typeface="Arial"/>
              </a:rPr>
              <a:t>Kennedy’s varied use of rhetorical devices makes Pathos the most represented appea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9900"/>
                </a:solidFill>
                <a:latin typeface="Arial"/>
              </a:rPr>
              <a:t>The use of Biblical allusions, anaphora's, and rhetorical questions convince the reader to side with Kenned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9900"/>
                </a:solidFill>
                <a:latin typeface="Arial"/>
              </a:rPr>
              <a:t>Because of his low mandate, Kennedy used antithesis to appeal to and represent the thoughts of everyone in Americ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7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28600" y="152280"/>
            <a:ext cx="99072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99cc00"/>
                    </a:gs>
                  </a:gsLst>
                  <a:lin ang="5400000"/>
                </a:gradFill>
                <a:latin typeface="Arial Black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99cc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99cc00"/>
                    </a:gs>
                  </a:gsLst>
                  <a:lin ang="5400000"/>
                </a:gradFill>
                <a:latin typeface="Arial Black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99cc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99cc00"/>
                    </a:gs>
                  </a:gsLst>
                  <a:lin ang="5400000"/>
                </a:gradFill>
                <a:latin typeface="Arial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99cc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99cc00"/>
                    </a:gs>
                  </a:gsLst>
                  <a:lin ang="5400000"/>
                </a:gradFill>
                <a:latin typeface="Arial Black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99cc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99cc00"/>
                    </a:gs>
                  </a:gsLst>
                  <a:lin ang="5400000"/>
                </a:gradFill>
                <a:latin typeface="Arial Black"/>
              </a:rPr>
              <a:t>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99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6400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152280"/>
            <a:ext cx="601992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In your hands, my fellow citizens, more than mine, will rest the final success or failure of our cours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- Logical cause and effect: If citizens show their loyalty and devotion to America, then Democracy will be preserv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228600"/>
            <a:ext cx="8001000" cy="72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Bradley Hand ITC"/>
              </a:rPr>
              <a:t>CLASS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 </a:t>
            </a:r>
            <a:r>
              <a:rPr b="1" lang="en-US" sz="12000" spc="-1" strike="noStrike">
                <a:solidFill>
                  <a:srgbClr val="333399"/>
                </a:solidFill>
                <a:latin typeface="Bradley Hand ITC"/>
              </a:rPr>
              <a:t>THEM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f8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066680" y="2057400"/>
            <a:ext cx="1371600" cy="274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895480" y="2057400"/>
            <a:ext cx="1371600" cy="274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0" y="2057400"/>
            <a:ext cx="1371600" cy="274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400800" y="2057400"/>
            <a:ext cx="1644480" cy="274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6095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457200"/>
            <a:ext cx="8229600" cy="60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Kennedy touches on “The American Dream” when he speaks of the ongoing challenge of stopping Communism and working with other countries (“Let us begin anew…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- “And this will not be finished in the first one hundred days. Nor will it be finished in the first one thousand days; nor in the life of this Administration; nor even perhaps in our lifetime on this planet. But let us begin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hese powerful lines express the hope, effort, and time that must be contributed to reach the American Dre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438280"/>
            <a:ext cx="82296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hn F. Kenn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3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oman Cath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President during the Cold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simple diction was easily understood by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228600"/>
            <a:ext cx="8381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SPEAK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4920" y="228600"/>
            <a:ext cx="8381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PURPO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09680"/>
            <a:ext cx="8686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his tactics for presid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idly explain the world at that point in American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tivate Americans to defend freedom and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patriotism as well as internatio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04920" y="228600"/>
            <a:ext cx="8458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UDI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209680"/>
            <a:ext cx="861048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only citizens of America, but citizens of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beginning of the speech, JFK addresses the previous Presidents and Vice P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FK advises Communists to see the benefits of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04920" y="228600"/>
            <a:ext cx="8458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MEDIU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124080"/>
            <a:ext cx="83059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that was given at the Capitol Building in Washington, D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elevised, which allowed JFK to be more direct with the audience and make a good first impression as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447920" y="457200"/>
            <a:ext cx="60325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HETORIC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371600" y="3733920"/>
            <a:ext cx="60325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EVIC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6248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28600" y="304920"/>
            <a:ext cx="8458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NTITHE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1302480" y="1370880"/>
            <a:ext cx="61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Contrast or opposition which is emphasized by parallelis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81080"/>
            <a:ext cx="312444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Example:</a:t>
            </a:r>
            <a:br>
              <a:rPr sz="3400"/>
            </a:b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“Symbolizing an end, as well as a beginning – signifying renewal, as well as change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1828800"/>
            <a:ext cx="403884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Arial"/>
              </a:rPr>
              <a:t>Purpose: </a:t>
            </a:r>
            <a:br>
              <a:rPr sz="3000"/>
            </a:br>
            <a:r>
              <a:rPr b="0" lang="en-US" sz="3000" spc="-1" strike="noStrike">
                <a:solidFill>
                  <a:srgbClr val="990033"/>
                </a:solidFill>
                <a:latin typeface="Arial"/>
              </a:rPr>
              <a:t>To educate the reader of more than one possib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Arial"/>
              </a:rPr>
              <a:t>- To accommodate the small mand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Arial"/>
              </a:rPr>
              <a:t>Effect:</a:t>
            </a:r>
            <a:br>
              <a:rPr sz="3000"/>
            </a:br>
            <a:r>
              <a:rPr b="0" lang="en-US" sz="3000" spc="-1" strike="noStrike">
                <a:solidFill>
                  <a:srgbClr val="990033"/>
                </a:solidFill>
                <a:latin typeface="Arial"/>
              </a:rPr>
              <a:t>- Path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04920" y="152280"/>
            <a:ext cx="8458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ALLU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159948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n indirect reference to any person, place, or t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286000"/>
            <a:ext cx="32004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Example:</a:t>
            </a:r>
            <a:br>
              <a:rPr sz="2400"/>
            </a:b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“…the command of Isaiah– to ‘undo the heavy burdens, and let the oppressed go free’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“…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year in and year out, ‘rejoicing in hope; patient in tribulation’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2133720"/>
            <a:ext cx="403848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rpose: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- Biblical reference to Isai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ff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thos: Builds credibility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- Pathos: If it’s in the Bible, it must be tru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iblical reference to the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ff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- Readers believe that we are constantly living out God’s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9:29:12Z</dcterms:created>
  <dc:creator>Licensed User</dc:creator>
  <dc:description/>
  <dc:language>en-US</dc:language>
  <cp:lastModifiedBy>Licensed User</cp:lastModifiedBy>
  <dcterms:modified xsi:type="dcterms:W3CDTF">2008-04-16T23:26:39Z</dcterms:modified>
  <cp:revision>12</cp:revision>
  <dc:subject/>
  <dc:title>Slide 1</dc:title>
</cp:coreProperties>
</file>